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EE014-5263-420D-BA7E-1382C0CB7F1F}" type="slidenum">
              <a:rPr b="0" lang="pt-BR" sz="18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6880" y="4343040"/>
            <a:ext cx="547236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1DD34-3A29-41D0-A20D-68B8522725EC}" type="slidenum">
              <a:rPr b="0" lang="pt-BR" sz="18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6880" y="4343040"/>
            <a:ext cx="547236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E29DA-AEEC-4E94-AA98-9031ED39493D}" type="slidenum">
              <a:rPr b="0" lang="pt-BR" sz="18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6880" y="4343040"/>
            <a:ext cx="547236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6E90-7860-464E-9BB0-DED0DF5FA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660C-96DE-4D0E-A348-E2E0F1DD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6018-22F8-4811-9EDA-AC9B6CB93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9F3B-B3D5-4C12-9B66-485C7BA96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C0FD-265E-4C67-90A3-2931618B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81EA-8000-4B62-88AF-C59F5988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ABC3-4715-41E3-9E91-12DF6EFC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36F4-96CF-4C8F-9594-43D15C37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C0B8-1EE8-485E-98D5-2D8BE96A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2D49-7E23-4213-AA41-29DE8790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2E6F-A9DB-49B8-95DA-252AD997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72CE-5FEF-4119-96D1-FCEB0AA1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6E4FF60-3EAF-42BF-A740-48A171CD8BA9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46" name="CaixaDeTexto 2"/>
          <p:cNvSpPr/>
          <p:nvPr/>
        </p:nvSpPr>
        <p:spPr>
          <a:xfrm>
            <a:off x="304920" y="309564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REUNIÃO DO CONSELHO NACIONAL DE PREVIDENCIA –CN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 Black"/>
              </a:rPr>
              <a:t>27/09/2018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80" name="CaixaDeTexto 2"/>
          <p:cNvSpPr/>
          <p:nvPr/>
        </p:nvSpPr>
        <p:spPr>
          <a:xfrm>
            <a:off x="304920" y="3124080"/>
            <a:ext cx="792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Black"/>
              </a:rPr>
              <a:t>Apresentação sobre Resolução nº 656 do Instituto Nacional do Seguro Social, de 4 de setembro de 2018, referente bloqueio da margem do consignado por até 180 dias, prorrogáveis por mais 180 dia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Retângulo 1"/>
          <p:cNvSpPr/>
          <p:nvPr/>
        </p:nvSpPr>
        <p:spPr>
          <a:xfrm>
            <a:off x="304920" y="838080"/>
            <a:ext cx="8534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Black"/>
              </a:rPr>
              <a:t>INS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Black"/>
              </a:rPr>
              <a:t>Diretoria de Benefício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Black"/>
              </a:rPr>
              <a:t>Coordenação – Geral de Gerenciamento do Pagamento de Benefícios - CGGPB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sp>
        <p:nvSpPr>
          <p:cNvPr id="83" name="Retângulo 4"/>
          <p:cNvSpPr/>
          <p:nvPr/>
        </p:nvSpPr>
        <p:spPr>
          <a:xfrm>
            <a:off x="380880" y="762120"/>
            <a:ext cx="8534520" cy="60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Motivação para publicação da Atual Resoluçã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ACP Pará nº 2008.39.00.003206-22200 (ACP/PA) – prevê a suspensão dos descontos relativos ao empréstimo consignado quando os aposentados e pensionistas  alegam não reconhecimento do contrato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Em cumprimento à Ação, regulamentado pelo Memorando-Circular nº 21/DIRBEN/CGBENEF de 04 de agosto de 2008 – as Agências da Previdência, por solicitação dos beneficiários, excluíam imediatamente o empréstimo e a margem era liberada, permitindo a contratação de novo empréstimo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sp>
        <p:nvSpPr>
          <p:cNvPr id="85" name="Retângulo 4"/>
          <p:cNvSpPr/>
          <p:nvPr/>
        </p:nvSpPr>
        <p:spPr>
          <a:xfrm>
            <a:off x="380880" y="838080"/>
            <a:ext cx="838224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Motivação para publicação da Atual Resoluçã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pós as medidas tomadas houve crescente número de exclusões de empréstimos e contratação de novo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o final da apuração quando comprovada a autenticidade do contrato, não era possível a sua reativação devido a ocupação da margem consignável por novos empréstimo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sp>
        <p:nvSpPr>
          <p:cNvPr id="87" name="Retângulo 4"/>
          <p:cNvSpPr/>
          <p:nvPr/>
        </p:nvSpPr>
        <p:spPr>
          <a:xfrm>
            <a:off x="457200" y="7621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Motivação para publicação da Atual Resoluçã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Retângulo 2"/>
          <p:cNvSpPr/>
          <p:nvPr/>
        </p:nvSpPr>
        <p:spPr>
          <a:xfrm>
            <a:off x="228600" y="1523880"/>
            <a:ext cx="8610480" cy="59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m 2013 para aprimorar o cumprimento à ACP/PA, foi publicada a Resolução nº 321/PRES/INSS de 11/07/2013 – os contratos eram suspensos, porém  a margem ficava bloqueada por até 60 dias para apuração da regularidade de contrato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om a publicação da Resolução nº 321/2013, verificou-se que o prazo de bloqueio da margem mostrou-se insuficiente, dando vazão à má prática de suspensão de um contrato para inclusão de um novo, antes da apuração da veracidade do contrato contestado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8680" algn="just"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28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sp>
        <p:nvSpPr>
          <p:cNvPr id="90" name="Retângulo 4"/>
          <p:cNvSpPr/>
          <p:nvPr/>
        </p:nvSpPr>
        <p:spPr>
          <a:xfrm>
            <a:off x="492120" y="7621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Motivação para publicação da Atual Resoluçã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Retângulo 1"/>
          <p:cNvSpPr/>
          <p:nvPr/>
        </p:nvSpPr>
        <p:spPr>
          <a:xfrm>
            <a:off x="228600" y="1219320"/>
            <a:ext cx="86454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O Parecer de Força Executória nº 00001/2018/NUPREV/PGPA/PGU/AGU, recomendou então a suspensão do desconto consignado e consequentemente o bloqueio da margem consignável até a finalização do procedimento administrativo de apuração de eventuais irregularidad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m complemento ao Parecer acima, foi editado o Parecer nº 00001/2018/SAADM/PFE-INSS-SEDE/PGF/AGU, recomendando estipulação de prazo de até 180 dias para conclusão da apuração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sp>
        <p:nvSpPr>
          <p:cNvPr id="93" name="Retângulo 4"/>
          <p:cNvSpPr/>
          <p:nvPr/>
        </p:nvSpPr>
        <p:spPr>
          <a:xfrm>
            <a:off x="457200" y="1166760"/>
            <a:ext cx="8381880" cy="43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Motivação para publicação da Atual Resoluçã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Foi publicada então a Resolução nº 656/PRES/INSS, de 4 de setembro de 2018, que prevê bloqueio da margem até o final da apuração. Podendo a margem ficar bloqueada por até 180 dias, prorrogáveis por igual período mediante justificativ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66600" y="990720"/>
            <a:ext cx="9001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Black"/>
              </a:rPr>
              <a:t>Diretoria de Benefício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Black"/>
              </a:rPr>
              <a:t>Coordenação – Geral de Gerenciamento do Pagamento de Benefícios - CGGPB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CaixaDeTexto 2"/>
          <p:cNvSpPr/>
          <p:nvPr/>
        </p:nvSpPr>
        <p:spPr>
          <a:xfrm>
            <a:off x="304920" y="3095640"/>
            <a:ext cx="79246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ALBERTO CARLOS FREITAS ALEG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Black"/>
              </a:rPr>
              <a:t>COORDENADOR –GERAL DE GERENCIAMENTO DO PAGAMENTO DE BENEFÍCIO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alberto.alegre@inss.gov.b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66600" y="990720"/>
            <a:ext cx="9001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Black"/>
              </a:rPr>
              <a:t>Diretoria de Benefício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Black"/>
              </a:rPr>
              <a:t>Coordenação – Geral de Gerenciamento do Pagamento de Benefícios - CGGPB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CaixaDeTexto 2"/>
          <p:cNvSpPr/>
          <p:nvPr/>
        </p:nvSpPr>
        <p:spPr>
          <a:xfrm>
            <a:off x="304920" y="309564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Black"/>
              </a:rPr>
              <a:t>Regulamentação dos convênios celebrados com o INSS, preconizado pelo artigo nº 115 da Lei nº 8.213/91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85680" y="760320"/>
            <a:ext cx="9001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SimSun"/>
              </a:rPr>
              <a:t>LEGISLAÇÃ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228600" y="2133720"/>
            <a:ext cx="868680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8680" indent="-3286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Lei 8.213/91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8680" indent="-3286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Art. 115.  Podem ser descontados dos benefício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8680" indent="-3286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     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(...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8680" indent="-3286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28680"/>
                <a:tab algn="l" pos="433440"/>
                <a:tab algn="l" pos="882720"/>
                <a:tab algn="l" pos="1332000"/>
                <a:tab algn="l" pos="1781280"/>
                <a:tab algn="l" pos="2230560"/>
                <a:tab algn="l" pos="2679840"/>
                <a:tab algn="l" pos="3129120"/>
                <a:tab algn="l" pos="3578400"/>
                <a:tab algn="l" pos="4027320"/>
                <a:tab algn="l" pos="4476600"/>
                <a:tab algn="l" pos="4925880"/>
                <a:tab algn="l" pos="5375160"/>
                <a:tab algn="l" pos="5824440"/>
                <a:tab algn="l" pos="6273720"/>
                <a:tab algn="l" pos="6723000"/>
                <a:tab algn="l" pos="7172280"/>
                <a:tab algn="l" pos="7621560"/>
                <a:tab algn="l" pos="8070840"/>
                <a:tab algn="l" pos="8520120"/>
                <a:tab algn="l" pos="89694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V - mensalidades de associações e demais entidades de aposentados legalmente reconhecidas, desde que autorizadas por seus filiados.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71280" y="571680"/>
            <a:ext cx="900144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SimSun"/>
              </a:rPr>
              <a:t>OBJETIVO DOS ACORDOS DE COOPERAÇÃO TÉCNIC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25000"/>
              </a:lnSpc>
              <a:spcBef>
                <a:spcPts val="3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66600" y="990720"/>
            <a:ext cx="90010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Rectangle 2" descr=""/>
          <p:cNvPicPr/>
          <p:nvPr/>
        </p:nvPicPr>
        <p:blipFill>
          <a:blip r:embed="rId3"/>
          <a:stretch/>
        </p:blipFill>
        <p:spPr>
          <a:xfrm>
            <a:off x="0" y="1932120"/>
            <a:ext cx="9229680" cy="41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228600" y="1752480"/>
            <a:ext cx="86868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Atualmente 18 entidades estão conveniadas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A formalização de novos convênios estão condicionadas a entidades que possuem abrangência nacional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-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 Aproximadamente 2,75 milhões de benefícios com   descontos, com repasses de R$ 57,5 milhões mensal;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-  Controle periódico dos 2.75 milhões benefícios que atualmente encontram-se com descontos de mensalidades associativas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Retângulo 1"/>
          <p:cNvSpPr/>
          <p:nvPr/>
        </p:nvSpPr>
        <p:spPr>
          <a:xfrm>
            <a:off x="228600" y="9907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SimSun"/>
              </a:rPr>
              <a:t>ACORDOS DE COOPERAÇÃO TÉCNIC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96640"/>
            <a:ext cx="8229600" cy="15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SimSun"/>
              </a:rPr>
              <a:t>RECOMENDAÇÕES ÀS ENTI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30040" y="152388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Divulgação do Acordo e seus anexos aos seus funcionários e sindicatos filiado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O formulário de autorização deve ser específico para este fim, não devendo utilizá-lo, por exemplo, para filiação de segurado ao sindicato ou para autorização de outros tipos de desconto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entralização dos arquivos na sede das entidades conveniada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spcBef>
                <a:spcPts val="700"/>
              </a:spcBef>
              <a:buNone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6600" indent="0">
              <a:spcBef>
                <a:spcPts val="700"/>
              </a:spcBef>
              <a:buNone/>
              <a:tabLst>
                <a:tab algn="l" pos="0"/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3"/>
          <p:cNvSpPr/>
          <p:nvPr/>
        </p:nvSpPr>
        <p:spPr>
          <a:xfrm flipV="1">
            <a:off x="1476360" y="2049120"/>
            <a:ext cx="360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15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SimSun"/>
              </a:rPr>
              <a:t>RECOMENDAÇÕES ÀS ENTI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Organização dos arquivos de forma a permitir a rápida e eficaz localização das fichas na ordem solicitada pelo INS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ncaminhamento de arquivo à DATAPREV com solicitação de inclusão de novos descontos somente quando estiver de posse dos formulários de autorização assinados pelos segurado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478080"/>
            <a:ext cx="8229600" cy="21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SimSun"/>
              </a:rPr>
              <a:t>RECOMENDAÇÕES ÀS ENTIDA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286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Orientar seus funcionários e sindicatos filiados para a obrigatoriedade de que as autorizações sejam assinadas pelos titulares dos benefícios que autorizarão os descont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2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0" y="682308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66600" y="990720"/>
            <a:ext cx="900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NTIDADES ACORDANTE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892160" y="1560600"/>
          <a:ext cx="5359680" cy="4605120"/>
        </p:xfrm>
        <a:graphic>
          <a:graphicData uri="http://schemas.openxmlformats.org/drawingml/2006/table">
            <a:tbl>
              <a:tblPr/>
              <a:tblGrid>
                <a:gridCol w="1155960"/>
                <a:gridCol w="2133360"/>
                <a:gridCol w="2070360"/>
              </a:tblGrid>
              <a:tr h="242640">
                <a:tc gridSpan="2"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IDADE DE CLAS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GÊNC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APP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20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BAP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/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TR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/20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R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/20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B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/20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A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/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TAPI/CU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/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AF/ FETRA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20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DNAP/F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0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DAP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0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DIAP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/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RJ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/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AMS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0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TF/CNTT/CU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20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TRAAPI/CU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/20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AAM-BRASI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/20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dos/MONGER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/20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S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29880" bIns="29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/20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59400" marR="59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6T11:10:45Z</dcterms:created>
  <dc:creator>inss</dc:creator>
  <dc:description/>
  <dc:language>en-US</dc:language>
  <cp:lastModifiedBy>Silvana do Socorro Machado Rodrigues - MPS</cp:lastModifiedBy>
  <dcterms:modified xsi:type="dcterms:W3CDTF">2018-09-27T11:37:15Z</dcterms:modified>
  <cp:revision>95</cp:revision>
  <dc:subject/>
  <dc:title>Slide 1</dc:title>
</cp:coreProperties>
</file>